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0486-00E8-49BD-9D89-822FE567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E298-7F02-4BE6-849A-9424315D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2AA7-77DD-44C5-A88B-1D719A41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D49-99B2-403E-B43A-E68C602F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7A85-5354-469F-BE32-F708AE18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8847-8AFA-4E45-A92B-188502C8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ADC4-F06E-465D-AC4A-25D18A1B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CE04-8546-4387-81F7-C2764346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E6FA-0F56-4132-9156-694B94D7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29B3-D524-47D8-AF19-7B8875B5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35BF-CBED-4CF5-A3C0-2E522EAD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0A7A-C45C-4048-83F1-57F88CC5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D5A8-1880-413E-9FDA-A5EAA52F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5C23-CB0C-48E6-AA6A-A4132DE5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AEF5-CF43-43CF-8C17-C3CEDC64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1854-BD78-4887-9D9D-EBD58973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F005-B86B-460C-8B3C-05792D0B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6DEE-B592-421F-9810-7366AED4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99E6-48CA-4F9A-923A-356C3A2F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9A3-3A6F-40C1-B2AF-BCB259F9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4A82-29EE-4FB6-B1F3-71EBBE1C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DDF9-ACA9-4773-87FA-3544EB14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D5E-BC0E-4B44-8645-FB8A76D7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F22-FA1B-4D56-BCAC-ED0C8885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F092-A50F-4238-B256-A48424E2898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C246-F253-44DA-96C9-1588C937F90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rugosvet.ru/" TargetMode="External"/><Relationship Id="rId2" Type="http://schemas.openxmlformats.org/officeDocument/2006/relationships/hyperlink" Target="http://ru.wikipedia.org/" TargetMode="External"/><Relationship Id="rId3" Type="http://schemas.openxmlformats.org/officeDocument/2006/relationships/hyperlink" Target="http://www.traktat.com/" TargetMode="External"/><Relationship Id="rId4" Type="http://schemas.openxmlformats.org/officeDocument/2006/relationships/hyperlink" Target="http://ru.science.wikia.com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547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Engravers MT"/>
              </a:rPr>
              <a:t>СЛОЖНОЕ  ПРЕДЛОЖЕНИЕ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Engravers MT"/>
              </a:rPr>
              <a:t>Выполнила Николаева Юл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Engravers MT"/>
              </a:rPr>
              <a:t>учащаяся 9 «а» клас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Engravers MT"/>
              </a:rPr>
              <a:t>Школы № </a:t>
            </a:r>
            <a:r>
              <a:rPr b="1" i="1" lang="en-US" sz="2800" spc="-1" strike="noStrike">
                <a:solidFill>
                  <a:srgbClr val="000000"/>
                </a:solidFill>
                <a:latin typeface="Engravers MT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0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ервое предложение (Он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опоздали из-за сильного дождя) является простым предложением. Второе (Они опоздали, потому что шел сильный дождь)– сложноподчиненным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Быть грамотным – это нелегкая задача. Для этого нужно владеть большим объемом информации (правила, орфограммы, словарные слова, исключения)…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404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stellar"/>
              </a:rPr>
              <a:t>ВИДЫ  СЛОЖНЫХ  ПРЕДЛОЖЕНИЙ (СХЕ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907920"/>
            <a:ext cx="7416720" cy="115272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СЛОЖ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565360"/>
            <a:ext cx="4824360" cy="1150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СОЮ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1640" y="2565360"/>
            <a:ext cx="2089080" cy="1150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БЕССОЮ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4365720"/>
            <a:ext cx="2735280" cy="93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СЛОЖНОСОЧИН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48000" y="4365720"/>
            <a:ext cx="2808360" cy="93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СЛОЖНОПОДЧИН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1672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63640" y="371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371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stellar"/>
              </a:rPr>
              <a:t>Немного о ССП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2920" y="1557000"/>
            <a:ext cx="69836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ложносочиненные предложения   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такие предложения, в котор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простые предложения могут бы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равноправными по смыслу 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вязываются сочинительным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оюзами ( и, а, но, однако, зато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или …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stellar"/>
              </a:rPr>
              <a:t>Немного о СПП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8920" y="1628280"/>
            <a:ext cx="727056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ложноподчиненное предложение –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это сложное предложение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остоящее из двух (или боле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частей, одна из которых подчине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другой и связывается с ней пр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помощи подчинительного союз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или союзного слов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870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stellar"/>
              </a:rPr>
              <a:t>Немного о БСП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69644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Бессоюзные сложные предложения –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это предложения, состоящие из дву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или более частей, связанных межд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обой по смыслу, интонационно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порядком расположения частей и т.д.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но без союз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РЕСУРСЫ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stellar"/>
              </a:rPr>
              <a:t>Сайт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Castellar"/>
                <a:hlinkClick r:id="rId1"/>
              </a:rPr>
              <a:t>http://www.krugosvet.r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ru.wikipedia.or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http://www.traktat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http://ru.science.wikia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5:39:46Z</dcterms:created>
  <dc:creator>студент</dc:creator>
  <dc:description/>
  <dc:language>en-US</dc:language>
  <cp:lastModifiedBy>Admin</cp:lastModifiedBy>
  <dcterms:modified xsi:type="dcterms:W3CDTF">2010-05-12T02:12:06Z</dcterms:modified>
  <cp:revision>4</cp:revision>
  <dc:subject/>
  <dc:title>СЛОЖНОЕ  ПРЕДЛОЖЕНИЕ</dc:title>
</cp:coreProperties>
</file>